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9F39-CF17-4B7E-A37E-C77E39BF0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F0E5-0B4E-4641-96F9-9BEEE02F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83D2-FF53-4130-9A3A-6F204A340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10B7-3285-4C4B-91A3-3866BC149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4872-4C37-40C0-910A-3F135A194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74A0-0BE4-4FDD-B4E9-3C5EC2390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42C9-AF58-49BB-8B10-4849BF225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1D38-B714-4730-8420-C92E45BFC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7839-A937-4824-8EDC-859A31EC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052C-788A-4F26-BF90-E4E2740A9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F5CB-C4C4-4139-BCE0-DA8ECD7FE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1BCF-5D10-40EE-B9EC-5E52C892C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4AB-5DAB-4879-83C6-154AB145EB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hyperlink" Target="http://www.intel.com/education/au/visualrankin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hyperlink" Target="http://www.intel.com/education/au/visualranking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Reflecting On Your Use of th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ng on your use of th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the benefit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F09-AECF-44B9-864D-B823B57291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Power of Visual Ranking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5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Power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igned to support the type of activities that cover the entir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nge of cognitive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sidering How the Visual Ranking Tool Can b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egrated into a Classroom Projec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is open-ended and content fre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can be integrated into existing units and projec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supports a variety of strategi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E429-2D9A-4D68-9484-D13270A17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visual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Proj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lect two or three project or unit exampl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ho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s used in each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your thoughts and idea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project examples in Appendix C.03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327A-E7A5-44D5-8492-698154AB25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nking about Your Unit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1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ideas for effective uses of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er to the Project Rubric on page 2.15 – 2.16 to help clarify your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1614-4BE7-4395-81DC-146E313D3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Visual Ranking 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7600" y="1514520"/>
            <a:ext cx="82756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visual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Visual Ranking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8BF8-60D0-4467-9B07-7A22BF592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5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600200"/>
          <a:ext cx="8237520" cy="26665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5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47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Aft>
                          <a:spcPts val="400"/>
                        </a:spcAft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ny project that has students prioritizing, choosing among options, and/or evaluating different perspectives could benefit from 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10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an be used at any stage of a learning project to help students discuss their prior knowledge, put learning in a new context, or to assess or reflect on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2C1C-A671-4253-B503-B046393F4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 Visual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nking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ool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r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Your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y out a project idea that incorporates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DE29-B0E5-420E-BC6A-2FFD4BC48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001D-BD0C-450D-AF42-C6F031900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odule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ssessment metho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 evaluat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sessmen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an Assessmen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3D90-2F27-4BD8-BC9E-16970AA99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5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Visual Ranking Tool to Target Thinking Skills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54F3-BFE4-4548-9A2A-4EA812938C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066680"/>
          <a:ext cx="8237520" cy="4343400"/>
        </p:xfrm>
        <a:graphic>
          <a:graphicData uri="http://schemas.openxmlformats.org/drawingml/2006/table">
            <a:tbl>
              <a:tblPr/>
              <a:tblGrid>
                <a:gridCol w="1906560"/>
                <a:gridCol w="633096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059B-AD7A-41A3-9313-0BC58A9D0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Visual Ranking Tool to Targe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914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in depth that integrates the us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517760"/>
            <a:ext cx="4129200" cy="41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3C70-19C8-47FB-88D0-836D8462E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272880"/>
            <a:ext cx="833292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Visual Ranking in Actio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Benefits of Thinking Tool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5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 benefit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acher 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management 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9FF5-1CD9-45E7-A793-2A0CA3ECD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roducing List Ranking in the Classroom –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5.02–5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helps stud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yse and evaluate items in a list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criteria for sort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oritise ite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ain reaso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are lists visuall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egotiate and adju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from multiple perspectiv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D092-AFB8-44C4-9064-3B8A67956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Brainstorming a Lis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a li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small groups, brainstorm a list of flow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list with the whole cla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apse items that are simila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Logging In as a Studen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og in as a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anking Flow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7A2E-0310-48A9-90B2-09A5F5068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Ranking and Comparing the Lis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nk and compare the li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nk and provide rationale in Comments bo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are and discuss your list with another tea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and discuss the “class aver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17ED-1058-42E9-8666-85C919F8E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6:11Z</dcterms:modified>
  <cp:revision>116</cp:revision>
  <dc:subject/>
  <dc:title>Presentation Title Goes Here</dc:title>
</cp:coreProperties>
</file>